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3BDC-55F1-44AF-AA34-0B4B4FC0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2CF3-0769-45F0-A84B-2D280BE1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9C23-FB09-4540-8513-107449CC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0384-2F9C-4AA9-ACF6-55236AB01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1567-8CBA-4C70-B83D-FD7F245A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D1E1-474A-4304-8D32-B1E92C7C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A442-7FDA-47A3-BD4E-298C4603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56E2-9B92-4E53-AF31-0173222F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6E2D-15F9-4059-84CE-4D712A0E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3945-766A-446E-B89A-5F51D45B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79E1-9DB2-43B8-A72E-F1C57F4C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029-E392-4C3B-8BCD-04E2F3D0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02F6-9FBD-4ECA-8211-61F2AEBFE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486400" y="3352680"/>
            <a:ext cx="3352680" cy="3191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5800" y="304920"/>
            <a:ext cx="5029200" cy="47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Учимся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писать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цифры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 rot="6330600">
            <a:off x="2797920" y="1665720"/>
            <a:ext cx="3009960" cy="205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287" y="21310"/>
                </a:moveTo>
                <a:arcTo wR="10800" hR="10800" stAng="4601277" swAng="21402366"/>
                <a:lnTo>
                  <a:pt x="10800" y="10800"/>
                </a:lnTo>
                <a:close/>
              </a:path>
              <a:path fill="none" w="21600" h="21600">
                <a:moveTo>
                  <a:pt x="13287" y="21310"/>
                </a:moveTo>
                <a:arcTo wR="10800" hR="10800" stAng="4601277" swAng="21402366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038120" y="3276720"/>
            <a:ext cx="1143000" cy="1828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6861000">
            <a:off x="2026800" y="3644280"/>
            <a:ext cx="2920680" cy="1597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774" y="182"/>
                </a:moveTo>
                <a:arcTo wR="10800" hR="10800" stAng="-4768047" swAng="7597716"/>
                <a:lnTo>
                  <a:pt x="10800" y="10800"/>
                </a:lnTo>
                <a:close/>
              </a:path>
              <a:path fill="none" w="21600" h="21600">
                <a:moveTo>
                  <a:pt x="12774" y="182"/>
                </a:moveTo>
                <a:arcTo wR="10800" hR="10800" stAng="-4768047" swAng="7597716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22096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 rot="7451400">
            <a:off x="4473000" y="101268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rcRect l="0" t="0" r="0" b="65385"/>
          <a:stretch/>
        </p:blipFill>
        <p:spPr>
          <a:xfrm>
            <a:off x="6705720" y="60948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rcRect l="0" t="0" r="0" b="65385"/>
          <a:stretch/>
        </p:blipFill>
        <p:spPr>
          <a:xfrm>
            <a:off x="5791320" y="167652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rcRect l="0" t="0" r="0" b="65385"/>
          <a:stretch/>
        </p:blipFill>
        <p:spPr>
          <a:xfrm>
            <a:off x="7315200" y="182880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rcRect l="0" t="0" r="0" b="65385"/>
          <a:stretch/>
        </p:blipFill>
        <p:spPr>
          <a:xfrm>
            <a:off x="5867280" y="2895480"/>
            <a:ext cx="1524240" cy="1062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rcRect l="0" t="0" r="0" b="65385"/>
          <a:stretch/>
        </p:blipFill>
        <p:spPr>
          <a:xfrm>
            <a:off x="5791320" y="403848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rcRect l="0" t="0" r="0" b="65385"/>
          <a:stretch/>
        </p:blipFill>
        <p:spPr>
          <a:xfrm>
            <a:off x="5715000" y="518148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rcRect l="0" t="0" r="0" b="65385"/>
          <a:stretch/>
        </p:blipFill>
        <p:spPr>
          <a:xfrm>
            <a:off x="7391520" y="304812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rcRect l="0" t="0" r="0" b="65385"/>
          <a:stretch/>
        </p:blipFill>
        <p:spPr>
          <a:xfrm>
            <a:off x="7391520" y="4038480"/>
            <a:ext cx="1523880" cy="1062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rcRect l="0" t="0" r="0" b="65385"/>
          <a:stretch/>
        </p:blipFill>
        <p:spPr>
          <a:xfrm>
            <a:off x="7391520" y="5257800"/>
            <a:ext cx="152388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 -0.00971 C 0.00573 -0.03561 0.00312 -0.06128 -0.00695 -0.08279 C -0.01702 -0.1043 -0.03473 -0.12928 -0.05209 -0.13922 C -0.06945 -0.14916 -0.09202 -0.15032 -0.11129 -0.14292 C -0.13056 -0.13552 -0.14948 -0.12002 -0.16754 -0.09412 C -0.18559 -0.06822 -0.2099 -0.01711 -0.21962 0.01272 C -0.22934 0.04256 -0.22448 0.06453 -0.22535 0.08418 C -0.22622 0.10338 -0.22674 0.11471 -0.22535 0.13044 C -0.22396 0.14686 -0.22101 0.16397 -0.21684 0.18155 C -0.21268 0.19912 -0.2099 0.22017 -0.2 0.23613 C -0.19011 0.25208 -0.17431 0.27082 -0.15764 0.27729 C -0.14098 0.28377 -0.11667 0.28192 -0.1 0.27544 C -0.08334 0.26897 -0.07032 0.25463 -0.05764 0.23798 C -0.04497 0.22133 -0.03351 0.19912 -0.02396 0.176 C -0.01441 0.15264 -0.00539 0.12558 3.33333E-006 0.09875 C 0.00538 0.07216 0.00659 0.03076 0.0085 0.01457 C 0.01041 -0.00162 0.01146 -0.00624 0.01128 0.00162 C 0.01111 0.00948 0.01163 0.03631 0.00711 0.06152 C 0.0026 0.08673 -0.00625 0.12651 -0.01545 0.15356 C -0.02466 0.18039 -0.03264 0.18918 -0.04792 0.22294 C -0.0632 0.25648 -0.08959 0.31776 -0.10695 0.3543 C -0.12431 0.39038 -0.14011 0.4216 -0.15209 0.44219 C -0.16407 0.463 -0.16563 0.46624 -0.17882 0.47965 C -0.19202 0.4933 -0.21667 0.51689 -0.23091 0.52313 C -0.24514 0.52868 -0.25539 0.52105 -0.26476 0.51527 C -0.27414 0.50972 -0.28143 0.50232 -0.28733 0.4889 C -0.29323 0.47595 -0.29792 0.44658 -0.3 0.43455 C -0.30209 0.42299 -0.3 0.42068 -0.3 0.41813 E">
                                      <p:cBhvr>
                                        <p:cTn id="72" dur="5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901200">
            <a:off x="2796840" y="1133280"/>
            <a:ext cx="2460600" cy="472104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24382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 rot="7451400">
            <a:off x="4549320" y="124128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flipH="1">
            <a:off x="6172200" y="1981080"/>
            <a:ext cx="4571280" cy="624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 rot="9714000">
            <a:off x="6666480" y="2964960"/>
            <a:ext cx="837360" cy="46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1" y="6303"/>
                </a:moveTo>
                <a:arcTo wR="10800" hR="10800" stAng="-9323486" swAng="9323486"/>
                <a:lnTo>
                  <a:pt x="10800" y="10800"/>
                </a:lnTo>
                <a:close/>
              </a:path>
              <a:path fill="none" w="21600" h="21600">
                <a:moveTo>
                  <a:pt x="981" y="6303"/>
                </a:moveTo>
                <a:arcTo wR="10800" hR="10800" stAng="-9323486" swAng="9323486"/>
              </a:path>
            </a:pathLst>
          </a:cu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 rot="9714000">
            <a:off x="7008120" y="2438280"/>
            <a:ext cx="837720" cy="44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1" y="6303"/>
                </a:moveTo>
                <a:arcTo wR="10800" hR="10800" stAng="-9323486" swAng="9323486"/>
                <a:lnTo>
                  <a:pt x="10800" y="10800"/>
                </a:lnTo>
                <a:close/>
              </a:path>
              <a:path fill="none" w="21600" h="21600">
                <a:moveTo>
                  <a:pt x="981" y="6303"/>
                </a:moveTo>
                <a:arcTo wR="10800" hR="10800" stAng="-9323486" swAng="9323486"/>
              </a:path>
            </a:pathLst>
          </a:cu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 rot="9714000">
            <a:off x="6322320" y="3809520"/>
            <a:ext cx="837720" cy="46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1" y="6303"/>
                </a:moveTo>
                <a:arcTo wR="10800" hR="10800" stAng="-9323486" swAng="9323486"/>
                <a:lnTo>
                  <a:pt x="10800" y="10800"/>
                </a:lnTo>
                <a:close/>
              </a:path>
              <a:path fill="none" w="21600" h="21600">
                <a:moveTo>
                  <a:pt x="981" y="6303"/>
                </a:moveTo>
                <a:arcTo wR="10800" hR="10800" stAng="-9323486" swAng="9323486"/>
              </a:path>
            </a:pathLst>
          </a:cu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15541E-006 C -0.00209 -0.02845 -0.00625 -0.04903 -0.01406 -0.07493 C -0.02188 -0.10083 -0.03334 -0.13876 -0.04653 -0.15565 C -0.05972 -0.17253 -0.07344 -0.17692 -0.09288 -0.17623 C -0.11233 -0.17553 -0.14063 -0.17183 -0.16337 -0.15194 C -0.18611 -0.13206 -0.20868 -0.10847 -0.22952 -0.0562 C -0.25035 -0.00393 -0.279 0.09597 -0.28872 0.16142 C -0.29844 0.22687 -0.29323 0.28492 -0.28733 0.3358 C -0.28143 0.38668 -0.26806 0.43941 -0.25347 0.46716 C -0.23889 0.49491 -0.21945 0.50393 -0.2 0.50277 C -0.18056 0.50162 -0.16146 0.48913 -0.13663 0.45976 C -0.11181 0.43039 -0.07153 0.37095 -0.0507 0.32655 C -0.02986 0.28214 -0.01945 0.23173 -0.01129 0.19334 C -0.00313 0.15495 -0.00278 0.12766 -0.00139 0.09574 C 2.4999999999999E-006 0.06383 0.00208 0.02844 2.5E-006 2.15541E-006 Z">
                                      <p:cBhvr>
                                        <p:cTn id="78" dur="5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1295280"/>
            <a:ext cx="3657600" cy="350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1295280"/>
            <a:ext cx="3505320" cy="350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514600" y="1294920"/>
            <a:ext cx="1752480" cy="16002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590560" y="1371600"/>
            <a:ext cx="1600200" cy="34290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392600">
            <a:off x="4572000" y="1219320"/>
            <a:ext cx="1676520" cy="358128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257800"/>
            <a:ext cx="8077320" cy="1244520"/>
          </a:xfrm>
          <a:custGeom>
            <a:avLst/>
            <a:gdLst/>
            <a:ahLst/>
            <a:rect l="l" t="t" r="r" b="b"/>
            <a:pathLst>
              <a:path w="5088" h="784">
                <a:moveTo>
                  <a:pt x="0" y="96"/>
                </a:moveTo>
                <a:cubicBezTo>
                  <a:pt x="296" y="348"/>
                  <a:pt x="592" y="600"/>
                  <a:pt x="960" y="624"/>
                </a:cubicBezTo>
                <a:cubicBezTo>
                  <a:pt x="1328" y="648"/>
                  <a:pt x="1800" y="280"/>
                  <a:pt x="2208" y="240"/>
                </a:cubicBezTo>
                <a:cubicBezTo>
                  <a:pt x="2616" y="200"/>
                  <a:pt x="3024" y="304"/>
                  <a:pt x="3408" y="384"/>
                </a:cubicBezTo>
                <a:cubicBezTo>
                  <a:pt x="3792" y="464"/>
                  <a:pt x="4232" y="784"/>
                  <a:pt x="4512" y="720"/>
                </a:cubicBezTo>
                <a:cubicBezTo>
                  <a:pt x="4792" y="656"/>
                  <a:pt x="4992" y="120"/>
                  <a:pt x="508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5638680"/>
            <a:ext cx="53316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5638680"/>
            <a:ext cx="914400" cy="914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5486400"/>
            <a:ext cx="838080" cy="838080"/>
          </a:xfrm>
          <a:prstGeom prst="ellipse">
            <a:avLst/>
          </a:prstGeom>
          <a:solidFill>
            <a:srgbClr val="f1e7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38480" y="5486400"/>
            <a:ext cx="304920" cy="30492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5257800"/>
            <a:ext cx="762120" cy="76212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5562720"/>
            <a:ext cx="609480" cy="533160"/>
          </a:xfrm>
          <a:prstGeom prst="ellipse">
            <a:avLst/>
          </a:prstGeom>
          <a:solidFill>
            <a:srgbClr val="f4b6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5715000"/>
            <a:ext cx="838440" cy="762120"/>
          </a:xfrm>
          <a:prstGeom prst="ellipse">
            <a:avLst/>
          </a:prstGeom>
          <a:solidFill>
            <a:srgbClr val="7b7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0280" y="617220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5943600"/>
            <a:ext cx="609480" cy="533520"/>
          </a:xfrm>
          <a:prstGeom prst="ellipse">
            <a:avLst/>
          </a:prstGeom>
          <a:solidFill>
            <a:srgbClr val="7f5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153280" y="5486400"/>
            <a:ext cx="381240" cy="304920"/>
          </a:xfrm>
          <a:prstGeom prst="ellipse">
            <a:avLst/>
          </a:prstGeom>
          <a:solidFill>
            <a:srgbClr val="78e4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2743200"/>
            <a:ext cx="15264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 rot="7451400">
            <a:off x="1729800" y="154584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324480" y="2057400"/>
            <a:ext cx="15264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23959E-006 L 0.18958 -0.22803 E">
                                      <p:cBhvr>
                                        <p:cTn id="84" dur="5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958 -0.22803 L 0.00625 0.28261 E">
                                      <p:cBhvr>
                                        <p:cTn id="87" dur="5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3281 -0.11425 C 0.43229 -0.13414 0.42986 -0.15865 0.42569 -0.17438 C 0.42152 -0.1901 0.41545 -0.19935 0.40746 -0.20814 C 0.39948 -0.21693 0.39288 -0.22803 0.37777 -0.22687 C 0.36267 -0.22572 0.33941 -0.22549 0.31718 -0.20074 C 0.29496 -0.176 0.26284 -0.12396 0.24409 -0.07863 C 0.22534 -0.0333 0.21111 0.02683 0.20451 0.07146 C 0.19791 0.11609 0.20052 0.16119 0.20451 0.18964 C 0.2085 0.21808 0.21718 0.23057 0.22847 0.24214 C 0.23975 0.2537 0.25156 0.26966 0.27222 0.25902 C 0.29288 0.24838 0.33125 0.21184 0.35243 0.17831 C 0.37361 0.14477 0.38628 0.09713 0.39896 0.05828 C 0.41163 0.01943 0.42326 -0.02498 0.42847 -0.05435 C 0.43368 -0.08372 0.43333 -0.09436 0.43281 -0.11425 Z">
                                      <p:cBhvr>
                                        <p:cTn id="90" dur="5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71600" y="533520"/>
            <a:ext cx="678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коне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657600" y="1676520"/>
            <a:ext cx="1776240" cy="3429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133720" y="51814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презентации: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Шевцова С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электронной почты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vtsovasa@mai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971800" y="1142640"/>
            <a:ext cx="2438280" cy="21337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895120" y="1143000"/>
            <a:ext cx="2514600" cy="4724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3200400"/>
            <a:ext cx="15264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57150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10666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 rot="7451400">
            <a:off x="2187000" y="200304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2000" r="2003" b="3457"/>
          <a:stretch/>
        </p:blipFill>
        <p:spPr>
          <a:xfrm rot="3825000">
            <a:off x="5476320" y="2143080"/>
            <a:ext cx="35020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5578E-006 L 0.26458 -0.31683 E">
                                      <p:cBhvr>
                                        <p:cTn id="6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458 -0.31683 L -0.01042 0.38252 E">
                                      <p:cBhvr>
                                        <p:cTn id="9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295280"/>
            <a:ext cx="47242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901200">
            <a:off x="3042000" y="1289520"/>
            <a:ext cx="2331360" cy="227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" y="9552"/>
                </a:moveTo>
                <a:arcTo wR="10800" hR="10800" stAng="-10401873" swAng="11299931"/>
                <a:lnTo>
                  <a:pt x="10800" y="10800"/>
                </a:lnTo>
                <a:close/>
              </a:path>
              <a:path fill="none" w="21600" h="21600">
                <a:moveTo>
                  <a:pt x="72" y="9552"/>
                </a:moveTo>
                <a:arcTo wR="10800" hR="10800" stAng="-10401873" swAng="11299931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42840" y="2971800"/>
            <a:ext cx="2514600" cy="30481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5562720"/>
            <a:ext cx="2666880" cy="469800"/>
          </a:xfrm>
          <a:custGeom>
            <a:avLst/>
            <a:gdLst/>
            <a:ahLst/>
            <a:rect l="l" t="t" r="r" b="b"/>
            <a:pathLst>
              <a:path w="1680" h="248">
                <a:moveTo>
                  <a:pt x="0" y="240"/>
                </a:moveTo>
                <a:cubicBezTo>
                  <a:pt x="256" y="144"/>
                  <a:pt x="512" y="48"/>
                  <a:pt x="720" y="48"/>
                </a:cubicBezTo>
                <a:cubicBezTo>
                  <a:pt x="928" y="48"/>
                  <a:pt x="1088" y="248"/>
                  <a:pt x="1248" y="240"/>
                </a:cubicBezTo>
                <a:cubicBezTo>
                  <a:pt x="1408" y="232"/>
                  <a:pt x="1608" y="40"/>
                  <a:pt x="1680" y="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 rot="7451400">
            <a:off x="2263320" y="7077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24004" t="27257" r="21600" b="18237"/>
          <a:stretch/>
        </p:blipFill>
        <p:spPr>
          <a:xfrm>
            <a:off x="6477120" y="12193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rcRect l="24004" t="27257" r="21600" b="18237"/>
          <a:stretch/>
        </p:blipFill>
        <p:spPr>
          <a:xfrm>
            <a:off x="5638680" y="35812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666880" y="58672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0116 C 0.01319 -0.03215 0.02882 -0.06152 0.04583 -0.08025 C 0.06337 -0.09852 0.08212 -0.108 0.10191 -0.11355 C 0.12188 -0.11702 0.14722 -0.11702 0.16597 -0.11355 C 0.18507 -0.108 0.20208 -0.08881 0.21424 -0.08025 C 0.22622 -0.07077 0.23125 -0.07285 0.23819 -0.05782 C 0.24462 -0.04325 0.2526 -0.01758 0.25399 0.00856 C 0.25625 0.03469 0.2526 0.07169 0.24583 0.09783 C 0.23906 0.12327 0.2526 0.09598 0.21424 0.16466 C 0.175 0.23219 0.05399 0.43987 0.01406 0.50925 C -0.02622 0.57771 -0.02639 0.57007 -0.02622 0.57539 C -0.02483 0.58349 0.00434 0.55111 0.0217 0.54278 C 0.03889 0.53284 0.0592 0.52012 0.07813 0.52012 C 0.09688 0.52012 0.11788 0.53469 0.13403 0.54278 C 0.14965 0.54972 0.15799 0.56799 0.17378 0.56452 C 0.18976 0.56013 0.22049 0.52729 0.22969 0.52012 E">
                                      <p:cBhvr>
                                        <p:cTn id="15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1066680"/>
            <a:ext cx="472464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rot="876600">
            <a:off x="3226320" y="1059840"/>
            <a:ext cx="2104920" cy="2095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7" y="21558"/>
                </a:moveTo>
                <a:arcTo wR="10800" hR="10800" stAng="5703657" swAng="14833044"/>
                <a:lnTo>
                  <a:pt x="10800" y="10800"/>
                </a:lnTo>
                <a:close/>
              </a:path>
              <a:path fill="none" w="21600" h="21600">
                <a:moveTo>
                  <a:pt x="9847" y="21558"/>
                </a:moveTo>
                <a:arcTo wR="10800" hR="10800" stAng="5703657" swAng="14833044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8120" y="3200400"/>
            <a:ext cx="2555640" cy="259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1" y="0"/>
                </a:moveTo>
                <a:arcTo wR="10800" hR="10800" stAng="-5399646" swAng="14712842"/>
                <a:lnTo>
                  <a:pt x="10800" y="10800"/>
                </a:lnTo>
                <a:close/>
              </a:path>
              <a:path fill="none" w="21600" h="21600">
                <a:moveTo>
                  <a:pt x="10801" y="0"/>
                </a:moveTo>
                <a:arcTo wR="10800" hR="10800" stAng="-5399646" swAng="14712842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144792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 rot="7451400">
            <a:off x="2491920" y="2505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2705400" cy="1952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791320" y="2438280"/>
            <a:ext cx="2705040" cy="1952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2705400" cy="1952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1133 C 0.01649 -0.02613 0.02882 -0.04093 0.04375 -0.05087 C 0.05868 -0.06082 0.07622 -0.0703 0.09444 -0.07146 C 0.11267 -0.07261 0.13681 -0.06914 0.15365 -0.05827 C 0.17049 -0.04741 0.18628 -0.02451 0.19583 -0.00578 C 0.20538 0.01296 0.20868 0.03331 0.21128 0.05435 C 0.21389 0.0754 0.2151 0.09968 0.21128 0.12003 C 0.20747 0.14038 0.19809 0.16097 0.18872 0.17623 C 0.17934 0.19149 0.16979 0.20236 0.15503 0.21185 C 0.14028 0.22133 0.1125 0.2278 0.1 0.23243 C 0.0875 0.23705 0.08056 0.23844 0.08038 0.24006 C 0.08021 0.24168 0.08924 0.23867 0.09861 0.24191 C 0.10799 0.24515 0.12188 0.24654 0.13663 0.25879 C 0.15139 0.27105 0.17517 0.29556 0.18733 0.31499 C 0.19948 0.33442 0.20521 0.3513 0.2099 0.37512 C 0.21458 0.39894 0.21771 0.43201 0.21563 0.45768 C 0.21354 0.48335 0.20538 0.50879 0.19722 0.52891 C 0.18906 0.54903 0.18351 0.56245 0.16632 0.57771 C 0.14913 0.59297 0.1191 0.61633 0.09444 0.62096 C 0.06979 0.62558 0.03767 0.61541 0.0184 0.60593 C -0.000869999999999999 0.59644 -0.0092 0.58118 -0.02101 0.56453 C -0.03281 0.54788 -0.04687 0.51619 -0.05208 0.50648 E">
                                      <p:cBhvr>
                                        <p:cTn id="21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3733920"/>
            <a:ext cx="1905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343040" y="1676520"/>
            <a:ext cx="1143000" cy="41907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971800" y="1143000"/>
            <a:ext cx="838080" cy="25909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11430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1600200"/>
            <a:ext cx="15264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486400" y="2590920"/>
            <a:ext cx="1943280" cy="2209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0" t="0" r="13648" b="0"/>
          <a:stretch/>
        </p:blipFill>
        <p:spPr>
          <a:xfrm rot="21115200">
            <a:off x="6553080" y="4191120"/>
            <a:ext cx="173700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rcRect l="10326" t="0" r="0" b="0"/>
          <a:stretch/>
        </p:blipFill>
        <p:spPr>
          <a:xfrm rot="20394600">
            <a:off x="7438680" y="2286000"/>
            <a:ext cx="1704960" cy="2160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324480" y="609480"/>
            <a:ext cx="1876680" cy="2133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 rot="7451400">
            <a:off x="2949120" y="-129960"/>
            <a:ext cx="3873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0.0111 L -0.08542 0.38252 E">
                                      <p:cBhvr>
                                        <p:cTn id="27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42 0.38252 L 0.13125 0.38252 E">
                                      <p:cBhvr>
                                        <p:cTn id="30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18958 0.07169 L 0.06458 0.68224 E">
                                      <p:cBhvr>
                                        <p:cTn id="33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580920" y="1143000"/>
            <a:ext cx="304920" cy="15238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6838800">
            <a:off x="3690000" y="-378720"/>
            <a:ext cx="1977120" cy="1892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983" y="480"/>
                </a:moveTo>
                <a:arcTo wR="10800" hR="10800" stAng="-4371582" swAng="6131212"/>
                <a:lnTo>
                  <a:pt x="10800" y="10800"/>
                </a:lnTo>
                <a:close/>
              </a:path>
              <a:path fill="none" w="21600" h="21600">
                <a:moveTo>
                  <a:pt x="13983" y="480"/>
                </a:moveTo>
                <a:arcTo wR="10800" hR="10800" stAng="-4371582" swAng="6131212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615600">
            <a:off x="2747880" y="2503800"/>
            <a:ext cx="2585880" cy="333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08" y="1882"/>
                </a:moveTo>
                <a:arcTo wR="10800" hR="10800" stAng="-7460196" swAng="16095218"/>
                <a:lnTo>
                  <a:pt x="10800" y="10800"/>
                </a:lnTo>
                <a:close/>
              </a:path>
              <a:path fill="none" w="21600" h="21600">
                <a:moveTo>
                  <a:pt x="4708" y="1882"/>
                </a:moveTo>
                <a:arcTo wR="10800" hR="10800" stAng="-7460196" swAng="16095218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10666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 rot="7451400">
            <a:off x="3025800" y="-129600"/>
            <a:ext cx="387360" cy="1714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553080" y="1447920"/>
            <a:ext cx="1524240" cy="1511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791320" y="2971800"/>
            <a:ext cx="1523880" cy="1509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391520" y="3048120"/>
            <a:ext cx="1447560" cy="1436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791320" y="4651200"/>
            <a:ext cx="1447560" cy="1435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315200" y="4648320"/>
            <a:ext cx="14479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23312E-007 L -0.03334 0.22202 E">
                                      <p:cBhvr>
                                        <p:cTn id="39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4 0.22202 C -0.02483 0.21624 -0.01615 0.21069 -0.00799 0.20699 C 0.00017 0.20329 0.00642 0.20028 0.01597 0.19959 C 0.02552 0.19889 0.04045 0.2012 0.04982 0.20329 C 0.0592 0.20537 0.06493 0.2086 0.07239 0.21277 C 0.07986 0.21693 0.08715 0.21994 0.09496 0.2278 C 0.10277 0.23566 0.11128 0.24723 0.11892 0.25971 C 0.12656 0.2722 0.13524 0.28307 0.14132 0.30273 C 0.14739 0.32239 0.15277 0.35384 0.15555 0.37789 C 0.15833 0.40194 0.16076 0.42114 0.15833 0.44727 C 0.1559 0.47341 0.15 0.50763 0.14132 0.53539 C 0.13264 0.56314 0.12152 0.59181 0.10625 0.61425 C 0.09097 0.63668 0.06632 0.65911 0.04982 0.67045 C 0.03333 0.68178 0.02187 0.68085 0.00764 0.68178 C -0.0066 0.6827 -0.02275 0.68247 -0.03611 0.67623 C -0.04948 0.66998 -0.06268 0.65611 -0.07275 0.64431 C -0.08282 0.63252 -0.08941 0.6191 -0.09671 0.60477 C -0.104 0.59043 -0.11302 0.56568 -0.11632 0.55782 E">
                                      <p:cBhvr>
                                        <p:cTn id="42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1.10083E-006 C 0.00226 0.00647 0.00469 0.01318 0.01268 0.02058 C 0.02066 0.02798 0.03299 0.03978 0.04792 0.04486 C 0.06285 0.04995 0.08681 0.05435 0.10278 0.05065 C 0.11875 0.04695 0.13299 0.03307 0.14375 0.02243 C 0.15452 0.01179 0.16372 -0.00717 0.16771 -0.01318 E">
                                      <p:cBhvr>
                                        <p:cTn id="45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 rot="16801200">
            <a:off x="1865880" y="3005640"/>
            <a:ext cx="3050640" cy="252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287" y="21310"/>
                </a:moveTo>
                <a:arcTo wR="10800" hR="10800" stAng="4601277" swAng="21402366"/>
                <a:lnTo>
                  <a:pt x="10800" y="10800"/>
                </a:lnTo>
                <a:close/>
              </a:path>
              <a:path fill="none" w="21600" h="21600">
                <a:moveTo>
                  <a:pt x="13287" y="21310"/>
                </a:moveTo>
                <a:arcTo wR="10800" hR="10800" stAng="4601277" swAng="21402366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rot="1275000">
            <a:off x="2372760" y="1102680"/>
            <a:ext cx="2890440" cy="47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640" y="2715"/>
                </a:moveTo>
                <a:arcTo wR="10800" hR="10800" stAng="-7891719" swAng="9056562"/>
                <a:lnTo>
                  <a:pt x="10800" y="10800"/>
                </a:lnTo>
                <a:close/>
              </a:path>
              <a:path fill="none" w="21600" h="21600">
                <a:moveTo>
                  <a:pt x="3640" y="2715"/>
                </a:moveTo>
                <a:arcTo wR="10800" hR="10800" stAng="-7891719" swAng="9056562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 rot="7451400">
            <a:off x="4473000" y="7077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3331" t="11252" r="13333" b="33749"/>
          <a:stretch/>
        </p:blipFill>
        <p:spPr>
          <a:xfrm>
            <a:off x="5638680" y="5335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3331" t="11252" r="13333" b="33749"/>
          <a:stretch/>
        </p:blipFill>
        <p:spPr>
          <a:xfrm>
            <a:off x="7315200" y="5335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rcRect l="3331" t="11252" r="13333" b="33749"/>
          <a:stretch/>
        </p:blipFill>
        <p:spPr>
          <a:xfrm>
            <a:off x="5562720" y="2514600"/>
            <a:ext cx="1625400" cy="1743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rcRect l="3331" t="11252" r="13333" b="33749"/>
          <a:stretch/>
        </p:blipFill>
        <p:spPr>
          <a:xfrm>
            <a:off x="7238880" y="25909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rcRect l="3331" t="11252" r="13333" b="33749"/>
          <a:stretch/>
        </p:blipFill>
        <p:spPr>
          <a:xfrm>
            <a:off x="7315200" y="46483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rcRect l="3331" t="11252" r="13333" b="33749"/>
          <a:stretch/>
        </p:blipFill>
        <p:spPr>
          <a:xfrm>
            <a:off x="5638680" y="4648320"/>
            <a:ext cx="16239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40518E-007 C -0.00799 -0.0185 -0.0158 -0.03677 -0.02257 -0.05065 C -0.02935 -0.06452 -0.0316 -0.07285 -0.04098 -0.08256 C -0.05035 -0.09228 -0.06806 -0.10384 -0.079 -0.1087 C -0.08994 -0.11355 -0.09688 -0.11263 -0.10712 -0.1124 C -0.11737 -0.11216 -0.12952 -0.11055 -0.14098 -0.10685 C -0.15244 -0.10315 -0.16372 -0.09875 -0.17622 -0.08996 C -0.18872 -0.08118 -0.20105 -0.07285 -0.21563 -0.05435 C -0.23021 -0.03585 -0.24879 -0.00694 -0.26355 0.02081 C -0.2783 0.04857 -0.29289 0.07956 -0.30435 0.11263 C -0.3158 0.1457 -0.32466 0.18432 -0.33247 0.2197 C -0.34028 0.25509 -0.34862 0.29371 -0.35087 0.3247 C -0.35313 0.35569 -0.35122 0.37812 -0.34653 0.40541 C -0.34185 0.4327 -0.33421 0.46647 -0.32257 0.48797 C -0.31094 0.50948 -0.2948 0.52243 -0.27622 0.53469 C -0.25764 0.54695 -0.23143 0.56105 -0.21129 0.56105 C -0.19115 0.56105 -0.16928 0.54463 -0.15504 0.53469 C -0.1408 0.52475 -0.13403 0.51364 -0.12535 0.50092 C -0.11667 0.48821 -0.11112 0.47687 -0.10296 0.45791 C -0.0948 0.43895 -0.08143 0.41235 -0.07622 0.38668 C -0.07101 0.36101 -0.06997 0.33141 -0.07188 0.30412 C -0.07379 0.27683 -0.08021 0.24746 -0.08733 0.2234 C -0.09445 0.19935 -0.10157 0.17738 -0.11424 0.15957 C -0.12691 0.14177 -0.14601 0.12465 -0.16355 0.11633 C -0.18108 0.108 -0.20226 0.10615 -0.2198 0.10893 C -0.23733 0.1117 -0.25573 0.12257 -0.2691 0.13321 C -0.28247 0.14385 -0.28855 0.15402 -0.3 0.17276 C -0.31146 0.19149 -0.33178 0.23358 -0.3382 0.24584 E">
                                      <p:cBhvr>
                                        <p:cTn id="51" dur="5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1143000"/>
            <a:ext cx="2666880" cy="304920"/>
          </a:xfrm>
          <a:custGeom>
            <a:avLst/>
            <a:gdLst/>
            <a:ahLst/>
            <a:rect l="l" t="t" r="r" b="b"/>
            <a:pathLst>
              <a:path w="1728" h="264">
                <a:moveTo>
                  <a:pt x="0" y="264"/>
                </a:moveTo>
                <a:cubicBezTo>
                  <a:pt x="40" y="212"/>
                  <a:pt x="80" y="160"/>
                  <a:pt x="144" y="120"/>
                </a:cubicBezTo>
                <a:cubicBezTo>
                  <a:pt x="208" y="80"/>
                  <a:pt x="304" y="32"/>
                  <a:pt x="384" y="24"/>
                </a:cubicBezTo>
                <a:cubicBezTo>
                  <a:pt x="464" y="16"/>
                  <a:pt x="536" y="40"/>
                  <a:pt x="624" y="72"/>
                </a:cubicBezTo>
                <a:cubicBezTo>
                  <a:pt x="712" y="104"/>
                  <a:pt x="832" y="184"/>
                  <a:pt x="912" y="216"/>
                </a:cubicBezTo>
                <a:cubicBezTo>
                  <a:pt x="992" y="248"/>
                  <a:pt x="1040" y="264"/>
                  <a:pt x="1104" y="264"/>
                </a:cubicBezTo>
                <a:cubicBezTo>
                  <a:pt x="1168" y="264"/>
                  <a:pt x="1200" y="256"/>
                  <a:pt x="1296" y="216"/>
                </a:cubicBezTo>
                <a:cubicBezTo>
                  <a:pt x="1392" y="176"/>
                  <a:pt x="1632" y="48"/>
                  <a:pt x="1680" y="24"/>
                </a:cubicBezTo>
                <a:cubicBezTo>
                  <a:pt x="1728" y="0"/>
                  <a:pt x="1592" y="64"/>
                  <a:pt x="1584" y="72"/>
                </a:cubicBezTo>
                <a:cubicBezTo>
                  <a:pt x="1576" y="80"/>
                  <a:pt x="1624" y="72"/>
                  <a:pt x="1632" y="72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124080" y="1219320"/>
            <a:ext cx="2286000" cy="46479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3733920"/>
            <a:ext cx="12956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1371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3657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 rot="7451400">
            <a:off x="1958400" y="9828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29035" t="0" r="25805" b="18185"/>
          <a:stretch/>
        </p:blipFill>
        <p:spPr>
          <a:xfrm>
            <a:off x="7467480" y="228600"/>
            <a:ext cx="130356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rcRect l="29035" t="0" r="25805" b="18185"/>
          <a:stretch/>
        </p:blipFill>
        <p:spPr>
          <a:xfrm>
            <a:off x="5638680" y="228600"/>
            <a:ext cx="1303560" cy="1676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rcRect l="29035" t="7435" r="25805" b="21907"/>
          <a:stretch/>
        </p:blipFill>
        <p:spPr>
          <a:xfrm>
            <a:off x="7467480" y="1981080"/>
            <a:ext cx="1303560" cy="1447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rcRect l="29035" t="7435" r="25805" b="18185"/>
          <a:stretch/>
        </p:blipFill>
        <p:spPr>
          <a:xfrm>
            <a:off x="7543800" y="3352680"/>
            <a:ext cx="1303200" cy="1524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rcRect l="29035" t="11157" r="25805" b="18185"/>
          <a:stretch/>
        </p:blipFill>
        <p:spPr>
          <a:xfrm>
            <a:off x="5715000" y="3429000"/>
            <a:ext cx="1303200" cy="1447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rcRect l="29035" t="7435" r="25805" b="21907"/>
          <a:stretch/>
        </p:blipFill>
        <p:spPr>
          <a:xfrm>
            <a:off x="5715000" y="1905120"/>
            <a:ext cx="1303200" cy="1447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rcRect l="29035" t="7435" r="25805" b="18185"/>
          <a:stretch/>
        </p:blipFill>
        <p:spPr>
          <a:xfrm>
            <a:off x="6553080" y="4800600"/>
            <a:ext cx="13035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-2.94172E-006 C 0.02378 -0.00948 0.03316 -0.01896 0.04566 -0.02428 C 0.05816 -0.0296 0.07326 -0.03446 0.08923 -0.03191 C 0.10521 -0.02937 0.12517 -0.01711 0.14132 -0.00948 C 0.15746 -0.00185 0.17361 0.0111 0.18646 0.01319 C 0.1993 0.01527 0.20086 0.01064 0.21875 0.0037 C 0.23663 -0.00323 0.28194 -0.02474 0.2934 -0.02821 C 0.30486 -0.03168 0.29236 -0.02821 0.28784 -0.01688 C 0.28333 -0.00555 0.30781 -0.07262 0.26666 0.03932 C 0.22552 0.15125 0.07882 0.5525 0.04132 0.65472 E">
                                      <p:cBhvr>
                                        <p:cTn id="57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8125 0.33812 L 0.23125 0.33812 E">
                                      <p:cBhvr>
                                        <p:cTn id="60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1066680"/>
            <a:ext cx="47242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 rot="1133400">
            <a:off x="3756960" y="1068120"/>
            <a:ext cx="1599840" cy="213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2" y="148"/>
                </a:moveTo>
                <a:arcTo wR="10800" hR="10800" stAng="-4830136" swAng="21163972"/>
                <a:lnTo>
                  <a:pt x="10800" y="10800"/>
                </a:lnTo>
                <a:close/>
              </a:path>
              <a:path fill="none" w="21600" h="21600">
                <a:moveTo>
                  <a:pt x="12582" y="148"/>
                </a:moveTo>
                <a:arcTo wR="10800" hR="10800" stAng="-4830136" swAng="21163972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4038480" y="3047760"/>
            <a:ext cx="457200" cy="2286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rot="1208400">
            <a:off x="2776320" y="3094200"/>
            <a:ext cx="2133360" cy="267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98" y="168"/>
                </a:moveTo>
                <a:arcTo wR="10800" hR="10800" stAng="-4792715" swAng="20650243"/>
                <a:lnTo>
                  <a:pt x="10800" y="10800"/>
                </a:lnTo>
                <a:close/>
              </a:path>
              <a:path fill="none" w="21600" h="21600">
                <a:moveTo>
                  <a:pt x="12698" y="168"/>
                </a:moveTo>
                <a:arcTo wR="10800" hR="10800" stAng="-4792715" swAng="20650243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144792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 rot="7451400">
            <a:off x="3101400" y="17424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rcRect l="8831" t="18955" r="7267" b="0"/>
          <a:stretch/>
        </p:blipFill>
        <p:spPr>
          <a:xfrm>
            <a:off x="5715000" y="1371600"/>
            <a:ext cx="162720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rcRect l="8831" t="18955" r="7267" b="0"/>
          <a:stretch/>
        </p:blipFill>
        <p:spPr>
          <a:xfrm>
            <a:off x="5638680" y="3352680"/>
            <a:ext cx="162576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rcRect l="8831" t="18955" r="7267" b="0"/>
          <a:stretch/>
        </p:blipFill>
        <p:spPr>
          <a:xfrm>
            <a:off x="7315200" y="1447920"/>
            <a:ext cx="1625760" cy="1828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rcRect l="8831" t="22754" r="7267" b="0"/>
          <a:stretch/>
        </p:blipFill>
        <p:spPr>
          <a:xfrm>
            <a:off x="7238880" y="3352680"/>
            <a:ext cx="1774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37 0.00902 C 0.01805 -0.00439 0.0276 -0.02266 0.04045 -0.03237 C 0.0533 -0.04209 0.07222 -0.05041 0.0868 -0.04926 C 0.10139 -0.0481 0.11649 -0.03792 0.12777 -0.02474 C 0.13906 -0.01156 0.1493 0.0081 0.15451 0.02961 C 0.15972 0.05111 0.15937 0.08395 0.15868 0.10454 C 0.15798 0.12512 0.15677 0.13437 0.15017 0.15333 C 0.14357 0.1723 0.13211 0.20213 0.11927 0.21901 C 0.10642 0.2359 0.08958 0.24931 0.07274 0.25463 C 0.0559 0.25995 0.03472 0.2507 0.01788 0.25093 C 0.00104 0.25116 -0.01077 0.24607 -0.02865 0.25671 C -0.04653 0.26735 -0.0724 0.28724 -0.08924 0.31476 C -0.10608 0.34228 -0.12466 0.38298 -0.13004 0.42184 C -0.13542 0.46069 -0.12969 0.51596 -0.12153 0.54741 C -0.11337 0.57887 -0.09688 0.59667 -0.08073 0.61124 C -0.06459 0.62581 -0.04584 0.63738 -0.02448 0.63553 C -0.00313 0.63368 0.02812 0.61864 0.04739 0.59991 C 0.06666 0.58118 0.08038 0.55666 0.09114 0.52313 C 0.10191 0.4896 0.11441 0.43895 0.11215 0.39917 C 0.10989 0.35939 0.09166 0.30921 0.07708 0.28469 C 0.0625 0.26018 0.03836 0.26295 0.02482 0.25278 C 0.01128 0.2426 0.00295 0.2396 -0.00469 0.22295 C -0.01233 0.20629 -0.01841 0.17369 -0.02153 0.15333 C -0.02466 0.13298 -0.02448 0.11841 -0.02292 0.10084 C -0.02136 0.08326 -0.01719 0.06337 -0.01181 0.04834 C -0.00643 0.03331 0.00069 0.02244 0.00937 0.00902 Z">
                                      <p:cBhvr>
                                        <p:cTn id="66" dur="5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евцова С.А.</dc:creator>
  <dc:description/>
  <dc:language>en-US</dc:language>
  <cp:lastModifiedBy>Берюхов</cp:lastModifiedBy>
  <dcterms:modified xsi:type="dcterms:W3CDTF">2012-09-08T16:34:2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